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754-85B6-42E6-BC91-F99BADAC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7CD-3086-451C-BC02-A84FD7EE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F26-E55A-400F-91BF-862D0A8C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2B0-9CC0-4E22-BED2-14D23235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4B4-378A-49B2-A35F-2E999B28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649-5D8E-49F2-9D44-76451C9A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052-B7E1-4147-A962-3E1A6D52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D6B-C535-400C-AD2E-2E39436D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5E59-988A-45DA-95C4-D06E6C1F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5E7-02E6-45AB-8F6D-798D5689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E4B-131B-49D3-B283-4398E80B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C0C-1AC0-47E6-8B8F-6C809665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F418-D37E-4EA4-A765-A49593A07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dan Trav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1995480"/>
            <a:ext cx="3352680" cy="276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41148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y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724120" cy="373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38829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Choice #2- color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978000" cy="2820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407196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Credit Fun Pho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224240" cy="299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39783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 with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865320" cy="273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52880" y="3733920"/>
            <a:ext cx="39196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2873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 Choice #1- Painting with Lig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6944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 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7624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ulation- Sports Pho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4267080" cy="3009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413568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Water D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400640" cy="2671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423864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33720" y="1990800"/>
            <a:ext cx="44956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23:21:33Z</dcterms:created>
  <dc:creator>Ashley</dc:creator>
  <dc:description/>
  <dc:language>en-US</dc:language>
  <cp:lastModifiedBy>C</cp:lastModifiedBy>
  <dcterms:modified xsi:type="dcterms:W3CDTF">2009-05-22T21:13:17Z</dcterms:modified>
  <cp:revision>9</cp:revision>
  <dc:subject/>
  <dc:title>Slide 1</dc:title>
</cp:coreProperties>
</file>